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wmf" ContentType="image/x-wmf"/>
  <Override PartName="/ppt/media/image3.png" ContentType="image/png"/>
  <Override PartName="/ppt/media/image5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7A88-764F-492A-A23D-1B399C81F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1FFF-4FD6-44C6-AF46-2D27AC6A0C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Why using 25 as a factor? Because she is overweight (BMI=25) before a pregnanc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This is only an estimation. Individualisation is necessar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4495-1A5F-431E-964D-F8F59C95B6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14 exch – distribute evenly t/out the day depending on the glucose control, current treatment and patient’s condi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BF –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Lunch –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Dinner –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Snacks – 1-2 once a day ON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A0B5-6B00-4A02-AC17-E27063AC9C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26A2-28A6-4673-9FBE-D4D915930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2572-F213-4BEB-B908-028FAD74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5119-9A3D-48B3-A02A-0D2FCDE02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6B47-4DE3-4C8F-B0A7-BEA4641D1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3D1F-7D76-4463-A46E-A1B449F0F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7F76-4996-4F72-AA48-CB420E7D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4EC3-DE44-4D10-8F9C-8BC7976A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7708-BFF6-4F9E-9EA5-8E43A80D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ECCB-5A31-4AF2-9791-E3702D3C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269B-71BE-44CD-BF19-B25DB1D5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D32B-45E9-4B2C-803F-859F482D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847B-B81F-4559-A7CA-A348E280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CB0F-AF9A-4765-8877-FB3BDF07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BFBD-573B-439F-AA66-5ECA303E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CCCE-E34F-4FC0-BA01-A21B4381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77BE-DFF9-494D-BA9D-1FA892700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48BB-C323-4CDE-9B96-FAAFB3541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A6776-54C7-450A-BA94-AE6F2E41C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33550-E5CB-4D62-8CE2-C7F69AE2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69F44-D7D3-4776-84C9-535CF50F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A6520-494C-4235-9488-6360A2E1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250DF-8654-4B10-B7D5-86F820D0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CE17-9F2D-4FE4-9FD4-971D1299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22ADF-6AF0-4641-82B0-CBC72F4D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9BC80-7AEF-4C36-81D6-4B8A04FA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61E90-DAA0-402E-9068-81DD1795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23423-14E8-4565-9A95-A79714DE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53736-12CA-4AA3-A337-5105C97D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419C2-3344-4B2B-B60C-01043C62B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DFB29-1CF3-46D5-A3FC-221AD16D6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7D37-0060-4D37-A304-CDB10457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0C89-6F4E-4526-99A6-0E0CB827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1B24-748F-4F52-9160-2678F6B2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8232-53ED-4DC2-A675-AD85781C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0FF7-0400-4FE7-8D62-841097F8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4851-00AA-47A1-ADDF-E3665384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7e9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31B4-8734-4479-B391-EBD87E703D5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5ABE-9C97-4A43-9B60-D1D43EBAD9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B2D8-BE15-4814-8AD9-3DDC72533DA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Times New Roman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F81F-060C-4696-B81B-C49E917455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7e9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1568-060A-42D4-9A82-31AF1F0A7B4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7C76-03F6-4F7E-B7CF-6097B5613E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8.jpeg"/><Relationship Id="rId5" Type="http://schemas.openxmlformats.org/officeDocument/2006/relationships/image" Target="../media/image15.jpeg"/><Relationship Id="rId6" Type="http://schemas.openxmlformats.org/officeDocument/2006/relationships/image" Target="../media/image9.jpe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ight Triangle 3"/>
          <p:cNvSpPr/>
          <p:nvPr/>
        </p:nvSpPr>
        <p:spPr>
          <a:xfrm flipV="1">
            <a:off x="-15480" y="0"/>
            <a:ext cx="7740720" cy="3610080"/>
          </a:xfrm>
          <a:prstGeom prst="rtTriangle">
            <a:avLst/>
          </a:prstGeom>
          <a:solidFill>
            <a:srgbClr val="ccccff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ight Triangle 4"/>
          <p:cNvSpPr/>
          <p:nvPr/>
        </p:nvSpPr>
        <p:spPr>
          <a:xfrm rot="10800000">
            <a:off x="4303800" y="-360"/>
            <a:ext cx="7888320" cy="5281560"/>
          </a:xfrm>
          <a:prstGeom prst="rtTriangle">
            <a:avLst/>
          </a:prstGeom>
          <a:solidFill>
            <a:srgbClr val="7030a0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1368360" y="2322360"/>
            <a:ext cx="770904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ining of Core Train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PG Management of  Diabetes In Pregnanc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SE DISCUSSION 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oc. Prof. Dr. Barakatun Nisak Mohd Yuso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cturer &amp; Dietiti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ulty of Medicine and Health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i Putra Malays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rcRect l="24844" t="12660" r="40727" b="22364"/>
          <a:stretch/>
        </p:blipFill>
        <p:spPr>
          <a:xfrm>
            <a:off x="9315360" y="2665440"/>
            <a:ext cx="2675160" cy="4040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232920" y="1253880"/>
            <a:ext cx="11633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5040" indent="-571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onitor total and rate of GW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35040" indent="-571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NT should be individualized </a:t>
            </a:r>
            <a:r>
              <a:rPr b="0" lang="en-MY" sz="4000" spc="-1" strike="noStrike">
                <a:solidFill>
                  <a:srgbClr val="000000"/>
                </a:solidFill>
                <a:latin typeface="Arial"/>
                <a:ea typeface="Arial"/>
              </a:rPr>
              <a:t>according to nutritional needs and cultural preferenc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35040" indent="-571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4000" spc="-1" strike="noStrike">
                <a:solidFill>
                  <a:srgbClr val="000000"/>
                </a:solidFill>
                <a:latin typeface="Arial"/>
                <a:ea typeface="Arial"/>
              </a:rPr>
              <a:t>MNT includes carbohydrate-controlled meal plan for those with GDM diagnosi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35040" indent="-571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y messages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201" name="Slide Number Placeholder 2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4019-09E6-4A49-AD4D-08E1E0237F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" y="2206440"/>
            <a:ext cx="12079440" cy="21286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DEE9-F36E-4FD3-A22F-DE8948C147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" y="2206440"/>
            <a:ext cx="12079440" cy="21286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CASE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2A65-8E2F-4EE2-8588-800AAF6241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32920" y="1253880"/>
            <a:ext cx="11633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2200" indent="-528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30 years old, G2P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16 weeks ges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Diagnosed with GD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Current weight 70 k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Height 1.55 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Pre-pregnancy weight 60 k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uestion 1. Did she </a:t>
            </a:r>
            <a:r>
              <a:rPr b="1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have appropriate gestational weight gai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stor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39" name="Footer Placeholder 2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0C4C-ECF6-4650-B8F7-3752BA049F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8" descr=""/>
          <p:cNvPicPr/>
          <p:nvPr/>
        </p:nvPicPr>
        <p:blipFill>
          <a:blip r:embed="rId1"/>
          <a:srcRect l="0" t="0" r="0" b="10009"/>
          <a:stretch/>
        </p:blipFill>
        <p:spPr>
          <a:xfrm>
            <a:off x="1525680" y="3087720"/>
            <a:ext cx="9264600" cy="356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" name=""/>
          <p:cNvGraphicFramePr/>
          <p:nvPr/>
        </p:nvGraphicFramePr>
        <p:xfrm>
          <a:off x="63360" y="31680"/>
          <a:ext cx="12061800" cy="614520"/>
        </p:xfrm>
        <a:graphic>
          <a:graphicData uri="http://schemas.openxmlformats.org/drawingml/2006/table">
            <a:tbl>
              <a:tblPr/>
              <a:tblGrid>
                <a:gridCol w="12061800"/>
              </a:tblGrid>
              <a:tr h="61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swer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pic>
        <p:nvPicPr>
          <p:cNvPr id="143" name="Rectangle 6" descr=""/>
          <p:cNvPicPr/>
          <p:nvPr/>
        </p:nvPicPr>
        <p:blipFill>
          <a:blip r:embed="rId2"/>
          <a:stretch/>
        </p:blipFill>
        <p:spPr>
          <a:xfrm>
            <a:off x="268200" y="646200"/>
            <a:ext cx="11668320" cy="2219400"/>
          </a:xfrm>
          <a:prstGeom prst="rect">
            <a:avLst/>
          </a:prstGeom>
          <a:ln w="0">
            <a:noFill/>
          </a:ln>
        </p:spPr>
      </p:pic>
      <p:sp>
        <p:nvSpPr>
          <p:cNvPr id="144" name="Rounded Rectangle 4"/>
          <p:cNvSpPr/>
          <p:nvPr/>
        </p:nvSpPr>
        <p:spPr>
          <a:xfrm>
            <a:off x="1384200" y="5526000"/>
            <a:ext cx="9406080" cy="522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ooter Placeholder 1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2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1BC9-0BE5-4514-983C-473EC62EC7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3360" y="1701720"/>
          <a:ext cx="12012840" cy="2508480"/>
        </p:xfrm>
        <a:graphic>
          <a:graphicData uri="http://schemas.openxmlformats.org/drawingml/2006/table">
            <a:tbl>
              <a:tblPr/>
              <a:tblGrid>
                <a:gridCol w="12012840"/>
              </a:tblGrid>
              <a:tr h="2508480">
                <a:tc>
                  <a:txBody>
                    <a:bodyPr anchor="ctr">
                      <a:noAutofit/>
                    </a:bodyPr>
                    <a:p>
                      <a:pPr marL="2318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le a </a:t>
                      </a:r>
                      <a:r>
                        <a:rPr b="1" lang="en-MY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otal weight gain is still within the range</a:t>
                      </a:r>
                      <a:r>
                        <a:rPr b="0" lang="en-MY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however, patient experiencing </a:t>
                      </a:r>
                      <a:r>
                        <a:rPr b="1" lang="en-MY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apid rates of weight gain</a:t>
                      </a:r>
                      <a:r>
                        <a:rPr b="0" lang="en-MY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This is especially pertinent as patient is just at her second trimester (16 weeks).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7030a0"/>
                      </a:solidFill>
                    </a:lnT>
                    <a:lnB w="2808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Slide Number Placeholder 1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BC3C-6D89-4394-A240-347F4A3132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6" descr="http://www.guthriecenter.lib.ia.us/images/boardmeeting1"/>
          <p:cNvPicPr/>
          <p:nvPr/>
        </p:nvPicPr>
        <p:blipFill>
          <a:blip r:embed="rId1"/>
          <a:stretch/>
        </p:blipFill>
        <p:spPr>
          <a:xfrm>
            <a:off x="8894880" y="1219320"/>
            <a:ext cx="1434960" cy="1228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2" descr="http://2.bp.blogspot.com/-kjGBdvxNFNI/UA4NX9diLLI/AAAAAAAADY4/07B8m5eZyLo/s1600/nasi+tomato+dan+kari+ayam.jpg"/>
          <p:cNvPicPr/>
          <p:nvPr/>
        </p:nvPicPr>
        <p:blipFill>
          <a:blip r:embed="rId2"/>
          <a:stretch/>
        </p:blipFill>
        <p:spPr>
          <a:xfrm>
            <a:off x="5391000" y="2921040"/>
            <a:ext cx="1843200" cy="1380960"/>
          </a:xfrm>
          <a:prstGeom prst="rect">
            <a:avLst/>
          </a:prstGeom>
          <a:ln w="0">
            <a:noFill/>
          </a:ln>
        </p:spPr>
      </p:pic>
      <p:sp>
        <p:nvSpPr>
          <p:cNvPr id="152" name="TextBox 4"/>
          <p:cNvSpPr/>
          <p:nvPr/>
        </p:nvSpPr>
        <p:spPr>
          <a:xfrm>
            <a:off x="1508040" y="914400"/>
            <a:ext cx="388620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reakfast 8.30am (@ cafeteria)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ti canai 1pc + dh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@ Idli 3 pc + dh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h Tarik (kurang mani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1584360" y="2743200"/>
            <a:ext cx="388620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unch 1 pm (@ cafeteria)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si campur (full rice) – usually chicken curry (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kin) with 1-2 tbsp V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in wat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1584360" y="4495680"/>
            <a:ext cx="5257800" cy="21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nner 1 pm (@ home cooked foods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ite rice 1½ cup (3/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@ bread 6 pc (4/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ually curry (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ntan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-2 tbsp VG,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ui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in wat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1050840" y="91440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1050840" y="266688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1050840" y="441972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traight Connector 14"/>
          <p:cNvSpPr/>
          <p:nvPr/>
        </p:nvSpPr>
        <p:spPr>
          <a:xfrm flipH="1">
            <a:off x="5533920" y="762120"/>
            <a:ext cx="3657600" cy="5715000"/>
          </a:xfrm>
          <a:prstGeom prst="line">
            <a:avLst/>
          </a:prstGeom>
          <a:ln w="38160">
            <a:solidFill>
              <a:srgbClr val="37609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3"/>
          <p:cNvSpPr/>
          <p:nvPr/>
        </p:nvSpPr>
        <p:spPr>
          <a:xfrm>
            <a:off x="8209080" y="2666880"/>
            <a:ext cx="2895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etings 3-4/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odles – 1 laddl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@ savory kuih 1-2p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in wat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uits (3-4p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8" descr="http://www.sunnewsforu.com/images_/IdliSambar_120225.jpg"/>
          <p:cNvPicPr/>
          <p:nvPr/>
        </p:nvPicPr>
        <p:blipFill>
          <a:blip r:embed="rId3"/>
          <a:stretch/>
        </p:blipFill>
        <p:spPr>
          <a:xfrm>
            <a:off x="6464160" y="457200"/>
            <a:ext cx="1524240" cy="1066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http://3.bp.blogspot.com/-TRDMSr_nRGY/TorSPALZ8oI/AAAAAAAAARc/O5cgsfdCNqM/s1600/teh-tarik.jpg"/>
          <p:cNvPicPr/>
          <p:nvPr/>
        </p:nvPicPr>
        <p:blipFill>
          <a:blip r:embed="rId4"/>
          <a:stretch/>
        </p:blipFill>
        <p:spPr>
          <a:xfrm>
            <a:off x="5778360" y="1600200"/>
            <a:ext cx="1086120" cy="812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http://t3.gstatic.com/images?q=tbn:S7__6VvwLUrD7M::&amp;t=1&amp;usg=__LfrAvh0AOFoord6I_Umao340nxo="/>
          <p:cNvPicPr/>
          <p:nvPr/>
        </p:nvPicPr>
        <p:blipFill>
          <a:blip r:embed="rId5"/>
          <a:stretch/>
        </p:blipFill>
        <p:spPr>
          <a:xfrm>
            <a:off x="4378320" y="5105520"/>
            <a:ext cx="1447920" cy="1143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http://t2.gstatic.com/images?q=tbn:DQTy6_aZoBOoZM::www.herdaily.com/blogimg/recipes/goreng-pisang.JPG&amp;t=1&amp;h=195&amp;w=260&amp;usg=__Rglp1b-tuB4PrbHtZbKsj40IzdY="/>
          <p:cNvPicPr/>
          <p:nvPr/>
        </p:nvPicPr>
        <p:blipFill>
          <a:blip r:embed="rId6"/>
          <a:stretch/>
        </p:blipFill>
        <p:spPr>
          <a:xfrm>
            <a:off x="8361360" y="5299200"/>
            <a:ext cx="1828800" cy="11761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28"/>
          <p:cNvSpPr/>
          <p:nvPr/>
        </p:nvSpPr>
        <p:spPr>
          <a:xfrm>
            <a:off x="7599240" y="4724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f no meetings-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4" descr="F:\Universiti Putra Malaysia\MRP\slides pix\PA150640.JPG"/>
          <p:cNvPicPr/>
          <p:nvPr/>
        </p:nvPicPr>
        <p:blipFill>
          <a:blip r:embed="rId7"/>
          <a:stretch/>
        </p:blipFill>
        <p:spPr>
          <a:xfrm>
            <a:off x="6534000" y="5224320"/>
            <a:ext cx="1792440" cy="1347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4" descr="http://1.bp.blogspot.com/_Voen13-J0lU/TKm50An5w1I/AAAAAAAAC2Q/bWRSkQ4VkuU/s1600/Roti+Canai.jpg"/>
          <p:cNvPicPr/>
          <p:nvPr/>
        </p:nvPicPr>
        <p:blipFill>
          <a:blip r:embed="rId8"/>
          <a:stretch/>
        </p:blipFill>
        <p:spPr>
          <a:xfrm>
            <a:off x="5092560" y="457200"/>
            <a:ext cx="132084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63360" y="31680"/>
          <a:ext cx="4314960" cy="614520"/>
        </p:xfrm>
        <a:graphic>
          <a:graphicData uri="http://schemas.openxmlformats.org/drawingml/2006/table">
            <a:tbl>
              <a:tblPr/>
              <a:tblGrid>
                <a:gridCol w="4314960"/>
              </a:tblGrid>
              <a:tr h="61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ual di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68" name="Footer Placeholder 1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2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E245-338F-41DE-96D9-B7D858DD4C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01680" y="927000"/>
            <a:ext cx="5121360" cy="29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otal energy = 2300 kcal/da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CHO = 427.5 g (62%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Protein = 66 g (10%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Fat = 69 g (28%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Fibre = 5 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Cholesterol = 300mg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ooter Placeholder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Arial"/>
                <a:ea typeface="Arial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14" descr="http://1.bp.blogspot.com/_Voen13-J0lU/TKm50An5w1I/AAAAAAAAC2Q/bWRSkQ4VkuU/s1600/Roti+Canai.jpg"/>
          <p:cNvPicPr/>
          <p:nvPr/>
        </p:nvPicPr>
        <p:blipFill>
          <a:blip r:embed="rId1"/>
          <a:stretch/>
        </p:blipFill>
        <p:spPr>
          <a:xfrm>
            <a:off x="6111720" y="415800"/>
            <a:ext cx="1886040" cy="15242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http://3.bp.blogspot.com/-TRDMSr_nRGY/TorSPALZ8oI/AAAAAAAAARc/O5cgsfdCNqM/s1600/teh-tarik.jpg"/>
          <p:cNvPicPr/>
          <p:nvPr/>
        </p:nvPicPr>
        <p:blipFill>
          <a:blip r:embed="rId2"/>
          <a:stretch/>
        </p:blipFill>
        <p:spPr>
          <a:xfrm>
            <a:off x="8121600" y="415800"/>
            <a:ext cx="1447920" cy="1567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http://2.bp.blogspot.com/-kjGBdvxNFNI/UA4NX9diLLI/AAAAAAAADY4/07B8m5eZyLo/s1600/nasi+tomato+dan+kari+ayam.jpg"/>
          <p:cNvPicPr/>
          <p:nvPr/>
        </p:nvPicPr>
        <p:blipFill>
          <a:blip r:embed="rId3"/>
          <a:stretch/>
        </p:blipFill>
        <p:spPr>
          <a:xfrm>
            <a:off x="6456240" y="2092320"/>
            <a:ext cx="2895840" cy="1905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http://t3.gstatic.com/images?q=tbn:S7__6VvwLUrD7M::&amp;t=1&amp;usg=__LfrAvh0AOFoord6I_Umao340nxo="/>
          <p:cNvPicPr/>
          <p:nvPr/>
        </p:nvPicPr>
        <p:blipFill>
          <a:blip r:embed="rId4"/>
          <a:stretch/>
        </p:blipFill>
        <p:spPr>
          <a:xfrm>
            <a:off x="909720" y="3941640"/>
            <a:ext cx="2286000" cy="18050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http://1.bp.blogspot.com/_Xkb20G6ASNk/St6kXiLmFsI/AAAAAAAABMs/iexAaLzQeZU/s400/kariayamyogurt3.jpg"/>
          <p:cNvPicPr/>
          <p:nvPr/>
        </p:nvPicPr>
        <p:blipFill>
          <a:blip r:embed="rId5"/>
          <a:stretch/>
        </p:blipFill>
        <p:spPr>
          <a:xfrm>
            <a:off x="2738520" y="4551480"/>
            <a:ext cx="1299960" cy="14475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http://t2.gstatic.com/images?q=tbn:DQTy6_aZoBOoZM::www.herdaily.com/blogimg/recipes/goreng-pisang.JPG&amp;t=1&amp;h=195&amp;w=260&amp;usg=__Rglp1b-tuB4PrbHtZbKsj40IzdY="/>
          <p:cNvPicPr/>
          <p:nvPr/>
        </p:nvPicPr>
        <p:blipFill>
          <a:blip r:embed="rId6"/>
          <a:stretch/>
        </p:blipFill>
        <p:spPr>
          <a:xfrm>
            <a:off x="7753320" y="4724280"/>
            <a:ext cx="1828800" cy="1176480"/>
          </a:xfrm>
          <a:prstGeom prst="rect">
            <a:avLst/>
          </a:prstGeom>
          <a:ln w="0">
            <a:noFill/>
          </a:ln>
        </p:spPr>
      </p:pic>
      <p:sp>
        <p:nvSpPr>
          <p:cNvPr id="178" name="TextBox 12"/>
          <p:cNvSpPr/>
          <p:nvPr/>
        </p:nvSpPr>
        <p:spPr>
          <a:xfrm>
            <a:off x="6661080" y="42670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f no meetings-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4" descr="F:\Universiti Putra Malaysia\MRP\slides pix\PA150640.JPG"/>
          <p:cNvPicPr/>
          <p:nvPr/>
        </p:nvPicPr>
        <p:blipFill>
          <a:blip r:embed="rId7"/>
          <a:stretch/>
        </p:blipFill>
        <p:spPr>
          <a:xfrm>
            <a:off x="5924520" y="4651200"/>
            <a:ext cx="1792440" cy="1341720"/>
          </a:xfrm>
          <a:prstGeom prst="rect">
            <a:avLst/>
          </a:prstGeom>
          <a:ln w="0">
            <a:noFill/>
          </a:ln>
        </p:spPr>
      </p:pic>
      <p:sp>
        <p:nvSpPr>
          <p:cNvPr id="180" name="Rounded Rectangle 19"/>
          <p:cNvSpPr/>
          <p:nvPr/>
        </p:nvSpPr>
        <p:spPr>
          <a:xfrm>
            <a:off x="4162320" y="4861080"/>
            <a:ext cx="1260720" cy="6951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= 6-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ounded Rectangle 20"/>
          <p:cNvSpPr/>
          <p:nvPr/>
        </p:nvSpPr>
        <p:spPr>
          <a:xfrm>
            <a:off x="9677520" y="851040"/>
            <a:ext cx="1260360" cy="6951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= 5-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ounded Rectangle 21"/>
          <p:cNvSpPr/>
          <p:nvPr/>
        </p:nvSpPr>
        <p:spPr>
          <a:xfrm>
            <a:off x="9677520" y="2700360"/>
            <a:ext cx="1260360" cy="6951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= 6-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ounded Rectangle 22"/>
          <p:cNvSpPr/>
          <p:nvPr/>
        </p:nvSpPr>
        <p:spPr>
          <a:xfrm>
            <a:off x="9677520" y="4927680"/>
            <a:ext cx="1260360" cy="6951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= 3-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3360" y="31680"/>
          <a:ext cx="4314960" cy="614520"/>
        </p:xfrm>
        <a:graphic>
          <a:graphicData uri="http://schemas.openxmlformats.org/drawingml/2006/table">
            <a:tbl>
              <a:tblPr/>
              <a:tblGrid>
                <a:gridCol w="4314960"/>
              </a:tblGrid>
              <a:tr h="61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etary Analy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85" name="Slide Number Placeholder 1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5464-BF0A-4D88-8DD4-E078EE682D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4"/>
          <p:cNvSpPr/>
          <p:nvPr/>
        </p:nvSpPr>
        <p:spPr>
          <a:xfrm>
            <a:off x="282600" y="515880"/>
            <a:ext cx="1122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 2. What we usually 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82440" y="1649520"/>
          <a:ext cx="12061800" cy="861840"/>
        </p:xfrm>
        <a:graphic>
          <a:graphicData uri="http://schemas.openxmlformats.org/drawingml/2006/table">
            <a:tbl>
              <a:tblPr/>
              <a:tblGrid>
                <a:gridCol w="12061800"/>
              </a:tblGrid>
              <a:tr h="861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swer 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89" name="Rectangle 2"/>
          <p:cNvSpPr/>
          <p:nvPr/>
        </p:nvSpPr>
        <p:spPr>
          <a:xfrm>
            <a:off x="82440" y="2712960"/>
            <a:ext cx="12061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4000" spc="-1" strike="noStrike">
                <a:solidFill>
                  <a:srgbClr val="000000"/>
                </a:solidFill>
                <a:latin typeface="Arial"/>
              </a:rPr>
              <a:t>Check </a:t>
            </a:r>
            <a:r>
              <a:rPr b="1" lang="en-MY" sz="4000" spc="-1" strike="noStrike">
                <a:solidFill>
                  <a:srgbClr val="ff0000"/>
                </a:solidFill>
                <a:latin typeface="Arial"/>
              </a:rPr>
              <a:t>energy intake </a:t>
            </a:r>
            <a:r>
              <a:rPr b="0" lang="en-MY" sz="4000" spc="-1" strike="noStrike">
                <a:solidFill>
                  <a:srgbClr val="000000"/>
                </a:solidFill>
                <a:latin typeface="Arial"/>
              </a:rPr>
              <a:t>and correct accordingly (to maintain current body weight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4000" spc="-1" strike="noStrike">
                <a:solidFill>
                  <a:srgbClr val="000000"/>
                </a:solidFill>
                <a:latin typeface="Arial"/>
              </a:rPr>
              <a:t>Recommend energy intake </a:t>
            </a:r>
            <a:r>
              <a:rPr b="0" lang="en-MY" sz="4000" spc="-1" strike="noStrike">
                <a:solidFill>
                  <a:srgbClr val="ff0000"/>
                </a:solidFill>
                <a:latin typeface="Arial"/>
              </a:rPr>
              <a:t>(70 x 25 kcal/kg body weight) = 1750 kcal/day </a:t>
            </a:r>
            <a:r>
              <a:rPr b="0" lang="en-MY" sz="4000" spc="-1" strike="noStrike">
                <a:solidFill>
                  <a:srgbClr val="000000"/>
                </a:solidFill>
                <a:latin typeface="Arial"/>
              </a:rPr>
              <a:t>with a carbohydrate-controlled meal pla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1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3B03-940B-434D-8CCC-AFFCEF8FCA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2192120" cy="8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600" spc="-1" strike="noStrike">
                <a:solidFill>
                  <a:srgbClr val="000000"/>
                </a:solidFill>
                <a:latin typeface="Arial"/>
                <a:ea typeface="Arial"/>
              </a:rPr>
              <a:t>Carbohydrate (CHO)-controlled meal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835200"/>
            <a:ext cx="7394400" cy="60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Prescribed 1750 kcal/day with 14 exchanges of CH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7050240" y="2530440"/>
          <a:ext cx="4914720" cy="2982960"/>
        </p:xfrm>
        <a:graphic>
          <a:graphicData uri="http://schemas.openxmlformats.org/drawingml/2006/table">
            <a:tbl>
              <a:tblPr/>
              <a:tblGrid>
                <a:gridCol w="4914720"/>
              </a:tblGrid>
              <a:tr h="2982960">
                <a:tc>
                  <a:txBody>
                    <a:bodyPr anchor="ctr">
                      <a:noAutofit/>
                    </a:bodyPr>
                    <a:p>
                      <a:pPr marL="12600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3909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 = 1750 kcal/da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2600">
                        <a:lnSpc>
                          <a:spcPct val="150000"/>
                        </a:lnSpc>
                        <a:tabLst>
                          <a:tab algn="l" pos="0"/>
                          <a:tab algn="l" pos="43909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% CHO = 875 kcal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2600">
                        <a:lnSpc>
                          <a:spcPct val="150000"/>
                        </a:lnSpc>
                        <a:tabLst>
                          <a:tab algn="l" pos="0"/>
                          <a:tab algn="l" pos="43909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gram (1 g = 4 kcal) = 218.75 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2600">
                        <a:lnSpc>
                          <a:spcPct val="15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3909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exchange (1 exch = 15 g CHO) =  14 ex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pic>
        <p:nvPicPr>
          <p:cNvPr id="194" name="Picture 6" descr=""/>
          <p:cNvPicPr/>
          <p:nvPr/>
        </p:nvPicPr>
        <p:blipFill>
          <a:blip r:embed="rId1"/>
          <a:srcRect l="14373" t="0" r="16262" b="0"/>
          <a:stretch/>
        </p:blipFill>
        <p:spPr>
          <a:xfrm>
            <a:off x="131760" y="1868400"/>
            <a:ext cx="6786720" cy="39830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7"/>
          <p:cNvSpPr/>
          <p:nvPr/>
        </p:nvSpPr>
        <p:spPr>
          <a:xfrm>
            <a:off x="131760" y="6175440"/>
            <a:ext cx="748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1600" spc="-1" strike="noStrike">
                <a:solidFill>
                  <a:srgbClr val="000000"/>
                </a:solidFill>
                <a:latin typeface="Arial"/>
                <a:ea typeface="Arial"/>
              </a:rPr>
              <a:t>Refer to Appendix 3 on CHO food, exchange list and GI die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ooter Placeholder 1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2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B1FD-8D22-4910-BE10-C4AA5E0A87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5T06:11:03Z</dcterms:created>
  <dc:creator>Norasyikin A Wahab</dc:creator>
  <dc:description/>
  <dc:language>en-US</dc:language>
  <cp:lastModifiedBy>Reviewer </cp:lastModifiedBy>
  <dcterms:modified xsi:type="dcterms:W3CDTF">2018-07-29T23:58:36Z</dcterms:modified>
  <cp:revision>144</cp:revision>
  <dc:subject/>
  <dc:title>Case study</dc:title>
</cp:coreProperties>
</file>